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drumroll.wav" ContentType="audio/x-wav"/>
  <Override PartName="/ppt/media/image6.jpeg" ContentType="image/jpeg"/>
  <Override PartName="/ppt/media/image10.png" ContentType="image/png"/>
  <Override PartName="/ppt/media/applause.wav" ContentType="audio/x-wav"/>
  <Override PartName="/ppt/media/image9.jpeg" ContentType="image/jpeg"/>
  <Override PartName="/ppt/media/image5.png" ContentType="image/png"/>
  <Override PartName="/ppt/media/whoosh.wav" ContentType="audio/x-wav"/>
  <Override PartName="/ppt/media/arrow.wav" ContentType="audio/x-wav"/>
  <Override PartName="/ppt/media/image8.png" ContentType="image/png"/>
  <Override PartName="/ppt/media/hammer.wav" ContentType="audio/x-wav"/>
  <Override PartName="/ppt/media/image1.wmf" ContentType="image/x-wmf"/>
  <Override PartName="/ppt/media/bomb.wav" ContentType="audio/x-wav"/>
  <Override PartName="/ppt/media/wind.wav" ContentType="audio/x-wav"/>
  <Override PartName="/ppt/media/image2.wmf" ContentType="image/x-wmf"/>
  <Override PartName="/ppt/media/type.wav" ContentType="audio/x-wav"/>
  <Override PartName="/ppt/media/image3.wmf" ContentType="image/x-wmf"/>
  <Override PartName="/ppt/media/voltage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964-270E-47A1-8860-F890DFCF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3B0-EB73-4950-A058-2687B3A8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7E5-FF8E-4B59-AF0A-8DDB330D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617-1FAC-4E42-9DFD-CD8F87F2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142F-6D38-4B41-AD27-09F72C91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F7DC-8308-49F3-B3D7-82F190FA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F314-1871-41FD-BF91-92A93D3B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A58-2868-42D9-BF7E-36D2FFC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AED-D3CA-48A3-ACE8-A3543F4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3165-8C40-487E-9A9F-BFA0ABC0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3C15-45D8-4280-86A6-F68B81A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1A3-1922-4F6F-990C-AA820414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9EB1-1E3D-4FAE-9859-7D37043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498-1D30-4A80-8F4F-AB6ED572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D162-DABB-498F-BE7E-B125F03D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E474-F02B-44E0-904F-87DCA1D1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3A0-3F76-4CED-8B8E-A587AB7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3F4-52C6-444C-B80B-0C4DAB0C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14A-0EBD-4482-B4EB-2CB0AEB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5D3-9AEF-4F2B-9D9F-E9F3195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360-5EFD-4511-BFD5-72384CEC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785-F1B4-4672-BA43-FBD7288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3BD-2170-418B-91B5-DE80F25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C34-945D-4843-AABF-A741541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C739-B734-4196-8B22-5ED2ED4871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130-EB7F-44F4-8172-C5E85BD340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bomb.wav" TargetMode="External"/><Relationship Id="rId2" Type="http://schemas.microsoft.com/office/2007/relationships/media" Target="file:///tmp/home/.config/libreoffice/4/user/gallery/bomb.wav" TargetMode="External"/><Relationship Id="rId3" Type="http://schemas.openxmlformats.org/officeDocument/2006/relationships/image" Target="../media/image8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dy, Nic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 and J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what we found on Alexander Graham Bell. Thank you for watching our show!!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228840" cy="2773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applause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8147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y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and Alex Yanosick, Cody Z., And Jason H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invented the telegraph/tele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289872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type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rn and whe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 was born in Edinburgh  March 3, 184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48292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hoosh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 was a teacher of deaf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484360" cy="20365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voltag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’s Fath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er Graham Bell’s father was named Alexander Melville Bell. He also taught the deaf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810240" cy="49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lexander Graham Bell was 18 he had been working on a idea of transmitting speech electric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patent for the telephone ( granted in 1876) Became the subject of litig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296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242712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3" name="hamm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830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880, France bestowed on Bell the 50,000-franc Volta Prize for his inven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27320" y="616680"/>
            <a:ext cx="184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hone3"/>
          <p:cNvSpPr/>
          <p:nvPr/>
        </p:nvSpPr>
        <p:spPr>
          <a:xfrm>
            <a:off x="3276720" y="3200400"/>
            <a:ext cx="2743200" cy="2743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5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399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exander Graham Bel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started to work on his invention the tele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hing he Is holding is his tele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359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2:07Z</dcterms:created>
  <dc:creator>Montour School District</dc:creator>
  <dc:description/>
  <dc:language>en-US</dc:language>
  <cp:lastModifiedBy>Montour School District</cp:lastModifiedBy>
  <dcterms:modified xsi:type="dcterms:W3CDTF">2008-05-22T13:48:58Z</dcterms:modified>
  <cp:revision>10</cp:revision>
  <dc:subject/>
  <dc:title>Alexander Graham Bell</dc:title>
</cp:coreProperties>
</file>